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ABB-FD07-4535-A827-89E82F99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83-020E-4DA2-91A2-EBED751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0F6-6FA6-4B46-B438-25C63856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45F-39ED-4386-B323-D313EC1C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98A-16F4-45E2-9BBE-6214820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DDC-F5CA-4EA7-BED8-5F3E24E4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186-A02E-499C-B309-6290283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094-4C53-4122-AA5B-ABEF1BDD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9E9-0956-42D5-B296-F115713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AF8-3ABA-4CEF-A17E-37282B2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DBB-A616-4A13-9A4A-81A8270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EDE-8389-4696-9705-5B86191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BAC8-CD3B-4BAB-9E38-4E873CE9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1480" y="1357200"/>
            <a:ext cx="566136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Arial"/>
              </a:rPr>
              <a:t>Что больше: 125 бит или 32 байт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Собака была привязана к десятиметровой веревке, а прошла 300 м. Как ей это удалось?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на в 101 класс ходила.                                                 Она ловила каждый зву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портфеле по 100 книг носила.                                   Своими десятью уш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 это правда, а не бред.                                             И 10 загорелых ру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гда пыля десятком ног,                                             Портфель и поводок держ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на шагала по дороге,                                                   И 10 темно-синих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а ней всегда бежал щенок                                           Оглядывали мир привы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 одним хвостом, зато стоногий                                  Но станет все совсем обычны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гда поймете наш расс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 какой компьютерной программе идет речь в песне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н мне дорог с давних лет,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И его милее нет,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Этих окон негасимый свет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Что общего между папирусом, берестяной грамотой, книгой и дискетой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Разгадайте ребу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7124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Разгадайте ребу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920" y="2795760"/>
            <a:ext cx="824364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Разгадайте ребу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561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Разгадайте ребу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3009960"/>
            <a:ext cx="7848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Если бы осьминоги умели считать, то какой бы системой они скорее всего пользовались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стану рано на за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гляжу в око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ли дождик на дворе, то посплю немнож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ли ж солнышко с у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ветит на крылеч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о оденусь   и ай-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бегу на реч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 помощь какого алгоритма можно описать это стихо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Какое слово в данном списке лишнее и почему: мышь, сканнер, принтер, джойстик, клавиату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Назовите отличия между оперативной и внешней памятью компьютер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Из какой памяти сотрется информация, если внезапно выключат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Каков информационный объем фраз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У нас сегодня брейн-ринг по информатике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Почему процессор обрабатывает информацию в двоичном вид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Сколько дискет достаточно, чтобы записать текст объемом 2 Мегабайт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Из двух будок на расстоянии 27 км  одновременно навстречу друг другу выскочили две собачки. Первая бежит со скоростью 4 км в час, а вторая несется со скоростью 5 км в час. Алгоритм какого типа нужно составить, чтобы определить, через сколько времени начнется др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Может ли компьютер работать без монитор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Какое слово в данном списке лишнее и почему: Килобайт, бит, бод, Мегабай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Мальчик закодирова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свое им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У него получилось 4 6 15 1. Мальчика зовут Гена. Какой шифр он применил для кодиров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48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Если в 12 часов ночи идет дождь, то можно ли ожидать, что через 72 будет солнечная пог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5:21:37Z</dcterms:created>
  <dc:creator>Admin</dc:creator>
  <dc:description/>
  <dc:language>en-US</dc:language>
  <cp:lastModifiedBy>Admin</cp:lastModifiedBy>
  <dcterms:modified xsi:type="dcterms:W3CDTF">2006-04-21T05:57:17Z</dcterms:modified>
  <cp:revision>25</cp:revision>
  <dc:subject/>
  <dc:title>Вопрос 1</dc:title>
</cp:coreProperties>
</file>