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9EC-2646-4E17-8ED5-48DF37F0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C85-B538-4EB0-8A44-3094BFE4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997-53AB-4D91-A7F7-D1F73267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FAA-606B-4D14-B35C-68E32436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5A35-2C4B-4756-956D-D48C47D2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23B0-FDA1-46BF-BAB3-086DFD8F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6EB9-56AB-4A83-ACBD-F038675A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BB3-57A3-44D5-ACB0-26E29BB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44B5-E21B-4FF3-9BA6-BF45717A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3280-0C72-40D7-97CC-209787AB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D3B6-C8D7-49E9-83F2-C6B7099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460-E0B4-4240-828C-6B234290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4599-6872-41B7-9B41-16FA0D97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718A-84E9-462F-839F-F405A77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4A07-C95F-4BD8-8CB6-34EDD085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8228-F57A-4EEF-8F36-0E809AF3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B057-FA5A-4865-B835-D264455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45F-F589-493E-AC49-4F1CC3D4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6B2-3B23-4312-98F9-4C4A3A85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EFE-D97D-47C9-8B8C-4DC2D391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8D4-0B21-43C4-979F-655421FA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AEF-4BF0-43E6-ACBE-54704D20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2E6-C3DD-4C23-9D04-A49B344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2B2-05E2-444F-8B2B-8051F133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F097-C53B-4B60-AF96-C86F0BB0C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7CDE-8CD8-451C-A9FD-D86DF78B2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66"/>
                </a:solidFill>
                <a:latin typeface="Times New Roman"/>
              </a:rPr>
              <a:t>Представление чисел</a:t>
            </a:r>
            <a:br>
              <a:rPr sz="5400"/>
            </a:br>
            <a:r>
              <a:rPr b="1" i="1" lang="en-US" sz="5400" spc="-1" strike="noStrike">
                <a:solidFill>
                  <a:srgbClr val="336666"/>
                </a:solidFill>
                <a:latin typeface="Times New Roman"/>
              </a:rPr>
              <a:t> в памяти компьютера</a:t>
            </a:r>
            <a:endParaRPr b="0" i="1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4797360"/>
            <a:ext cx="50472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4797360"/>
            <a:ext cx="50508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4797360"/>
            <a:ext cx="50508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4797360"/>
            <a:ext cx="50472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4797360"/>
            <a:ext cx="50508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4797360"/>
            <a:ext cx="50472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4797360"/>
            <a:ext cx="50472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4797360"/>
            <a:ext cx="504720" cy="5047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429000"/>
            <a:ext cx="122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ставление чисел в формате с фиксированной запято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2276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Самое маленькое отрицательное число, которое может поместиться в такую ячейку памяти будет рав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5280" y="495000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-2</a:t>
            </a:r>
            <a:r>
              <a:rPr b="1" lang="en-US" sz="3200" spc="-1" strike="noStrike" baseline="30000">
                <a:solidFill>
                  <a:srgbClr val="ff9933"/>
                </a:solidFill>
                <a:latin typeface="Arial"/>
              </a:rPr>
              <a:t>n</a:t>
            </a:r>
            <a:r>
              <a:rPr b="1" lang="ru-RU" sz="3200" spc="-1" strike="noStrike" baseline="30000">
                <a:solidFill>
                  <a:srgbClr val="ff9933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16-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-32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9640" y="4221000"/>
            <a:ext cx="8066160" cy="506520"/>
            <a:chOff x="539640" y="4221000"/>
            <a:chExt cx="8066160" cy="506520"/>
          </a:xfrm>
        </p:grpSpPr>
        <p:grpSp>
          <p:nvGrpSpPr>
            <p:cNvPr id="390" name=""/>
            <p:cNvGrpSpPr/>
            <p:nvPr/>
          </p:nvGrpSpPr>
          <p:grpSpPr>
            <a:xfrm>
              <a:off x="539640" y="4221000"/>
              <a:ext cx="4033800" cy="506520"/>
              <a:chOff x="539640" y="4221000"/>
              <a:chExt cx="4033800" cy="506520"/>
            </a:xfrm>
          </p:grpSpPr>
          <p:sp>
            <p:nvSpPr>
              <p:cNvPr id="391" name=""/>
              <p:cNvSpPr/>
              <p:nvPr/>
            </p:nvSpPr>
            <p:spPr>
              <a:xfrm>
                <a:off x="539640" y="4221000"/>
                <a:ext cx="504720" cy="504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4436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4764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52360" y="422100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5564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60360" y="422100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65440" y="4222440"/>
                <a:ext cx="504720" cy="50508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6872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4572000" y="4221000"/>
              <a:ext cx="4033800" cy="506520"/>
              <a:chOff x="4572000" y="4221000"/>
              <a:chExt cx="4033800" cy="506520"/>
            </a:xfrm>
          </p:grpSpPr>
          <p:sp>
            <p:nvSpPr>
              <p:cNvPr id="400" name=""/>
              <p:cNvSpPr/>
              <p:nvPr/>
            </p:nvSpPr>
            <p:spPr>
              <a:xfrm>
                <a:off x="457200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7672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58000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84720" y="422100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8800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092720" y="422100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97800" y="4222440"/>
                <a:ext cx="504720" cy="50508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10108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 rot="10800000">
            <a:off x="178920" y="5373360"/>
            <a:ext cx="2737080" cy="576360"/>
          </a:xfrm>
          <a:prstGeom prst="wedgeRoundRectCallout">
            <a:avLst>
              <a:gd name="adj1" fmla="val 32828"/>
              <a:gd name="adj2" fmla="val 162120"/>
              <a:gd name="adj3" fmla="val 16667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к отрицательного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Задания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для самостоятельного выполнения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601"/>
              </a:spcBef>
              <a:buClr>
                <a:srgbClr val="ff99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ножьте 41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3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ff99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прямой код каждого множителя и произведения в формате представления целых чисел со зна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4720" y="1773360"/>
            <a:ext cx="2089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948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24000" y="3357720"/>
            <a:ext cx="8642160" cy="581400"/>
            <a:chOff x="324000" y="3357720"/>
            <a:chExt cx="8642160" cy="581400"/>
          </a:xfrm>
        </p:grpSpPr>
        <p:grpSp>
          <p:nvGrpSpPr>
            <p:cNvPr id="413" name=""/>
            <p:cNvGrpSpPr/>
            <p:nvPr/>
          </p:nvGrpSpPr>
          <p:grpSpPr>
            <a:xfrm>
              <a:off x="1403280" y="3500280"/>
              <a:ext cx="7562880" cy="432000"/>
              <a:chOff x="1403280" y="3500280"/>
              <a:chExt cx="7562880" cy="43200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403280" y="3500280"/>
                <a:ext cx="4033800" cy="432000"/>
                <a:chOff x="1403280" y="3500280"/>
                <a:chExt cx="4033800" cy="4320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403280" y="3500280"/>
                  <a:ext cx="50508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90836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411280" y="3500280"/>
                  <a:ext cx="50508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1636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1964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92436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42764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93236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"/>
              <p:cNvSpPr/>
              <p:nvPr/>
            </p:nvSpPr>
            <p:spPr>
              <a:xfrm>
                <a:off x="140328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656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41128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1456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19280" y="350028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22560" y="350028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2764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930560" y="350028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4932360" y="3500280"/>
                <a:ext cx="4033800" cy="432000"/>
                <a:chOff x="4932360" y="3500280"/>
                <a:chExt cx="4033800" cy="4320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932360" y="3500280"/>
                  <a:ext cx="50508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43744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940360" y="3500280"/>
                  <a:ext cx="50508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44544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94872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45344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5672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461440" y="350028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93236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3564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94036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4364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94836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51640" y="3500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956360" y="350028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59640" y="350028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324000" y="33577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24000" y="4005360"/>
            <a:ext cx="8642160" cy="581400"/>
            <a:chOff x="324000" y="4005360"/>
            <a:chExt cx="8642160" cy="581400"/>
          </a:xfrm>
        </p:grpSpPr>
        <p:grpSp>
          <p:nvGrpSpPr>
            <p:cNvPr id="450" name=""/>
            <p:cNvGrpSpPr/>
            <p:nvPr/>
          </p:nvGrpSpPr>
          <p:grpSpPr>
            <a:xfrm>
              <a:off x="1403280" y="4147920"/>
              <a:ext cx="7562880" cy="432000"/>
              <a:chOff x="1403280" y="4147920"/>
              <a:chExt cx="7562880" cy="4320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403280" y="4147920"/>
                <a:ext cx="4033800" cy="432000"/>
                <a:chOff x="1403280" y="4147920"/>
                <a:chExt cx="4033800" cy="4320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403280" y="4147920"/>
                  <a:ext cx="50508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90836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411280" y="4147920"/>
                  <a:ext cx="50508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91636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41964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92436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42764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93236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140328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0656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41128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1456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19280" y="414792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922560" y="414792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2764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930560" y="414792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4932360" y="4147920"/>
                <a:ext cx="4033800" cy="432000"/>
                <a:chOff x="4932360" y="4147920"/>
                <a:chExt cx="4033800" cy="4320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932360" y="4147920"/>
                  <a:ext cx="50508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3744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40360" y="4147920"/>
                  <a:ext cx="50508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44544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94872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45344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95672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461440" y="4147920"/>
                  <a:ext cx="50472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493236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3564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94036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4364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4836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51640" y="414792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56360" y="414792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459640" y="414792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324000" y="40053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4000" y="4724280"/>
            <a:ext cx="12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9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28720" y="5229360"/>
            <a:ext cx="8062560" cy="431640"/>
            <a:chOff x="828720" y="5229360"/>
            <a:chExt cx="8062560" cy="431640"/>
          </a:xfrm>
        </p:grpSpPr>
        <p:grpSp>
          <p:nvGrpSpPr>
            <p:cNvPr id="488" name=""/>
            <p:cNvGrpSpPr/>
            <p:nvPr/>
          </p:nvGrpSpPr>
          <p:grpSpPr>
            <a:xfrm>
              <a:off x="1332000" y="5229360"/>
              <a:ext cx="4031640" cy="431640"/>
              <a:chOff x="1332000" y="5229360"/>
              <a:chExt cx="4031640" cy="431640"/>
            </a:xfrm>
          </p:grpSpPr>
          <p:sp>
            <p:nvSpPr>
              <p:cNvPr id="489" name=""/>
              <p:cNvSpPr/>
              <p:nvPr/>
            </p:nvSpPr>
            <p:spPr>
              <a:xfrm>
                <a:off x="1332000" y="5229360"/>
                <a:ext cx="50472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672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39280" y="5229360"/>
                <a:ext cx="50472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4436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34728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5164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35492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85928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1332000" y="5229360"/>
              <a:ext cx="50472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3528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4000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43280" y="5229360"/>
              <a:ext cx="50328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4656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4984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5456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5784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859280" y="5229360"/>
              <a:ext cx="4032000" cy="431640"/>
              <a:chOff x="4859280" y="5229360"/>
              <a:chExt cx="4032000" cy="431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859280" y="5229360"/>
                <a:ext cx="50472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6400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66920" y="5229360"/>
                <a:ext cx="50472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37164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7492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37928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88256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386920" y="5229360"/>
                <a:ext cx="50436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485928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6256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67280" y="5229360"/>
              <a:ext cx="50508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70560" y="5229360"/>
              <a:ext cx="50508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75640" y="5229360"/>
              <a:ext cx="5029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7712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81840" y="5229360"/>
              <a:ext cx="50508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85120" y="5229360"/>
              <a:ext cx="5047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8720" y="5229360"/>
              <a:ext cx="504720" cy="431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rot="10800000">
            <a:off x="5076360" y="5805000"/>
            <a:ext cx="3457800" cy="505080"/>
          </a:xfrm>
          <a:prstGeom prst="wedgeRoundRectCallout">
            <a:avLst>
              <a:gd name="adj1" fmla="val 147013"/>
              <a:gd name="adj2" fmla="val 87106"/>
              <a:gd name="adj3" fmla="val 16667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к отрицательного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0800000">
            <a:off x="826920" y="6165360"/>
            <a:ext cx="3888000" cy="576360"/>
          </a:xfrm>
          <a:prstGeom prst="wedgeRoundRectCallout">
            <a:avLst>
              <a:gd name="adj1" fmla="val 46240"/>
              <a:gd name="adj2" fmla="val 158263"/>
              <a:gd name="adj3" fmla="val 16667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помещается в разрядную сетк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дет отброше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1916280"/>
            <a:ext cx="7920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умножения двух положительных чисел получится отрицательное число -1592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Задания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для самостоятельного выполнения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00"/>
              </a:spcBef>
              <a:buClr>
                <a:srgbClr val="ff9933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 диапазон представления длинных целых чисел со знаком, если под их хранение отводится 4 ячейки памяти по 8 би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0920" y="4076640"/>
            <a:ext cx="828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 максимальное положите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2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= 2 147 483 6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отрицате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2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2 147 483 6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Задания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для самостоятельного выполнения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601"/>
              </a:spcBef>
              <a:buClr>
                <a:srgbClr val="ff9933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олните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24000" y="3068640"/>
          <a:ext cx="8496000" cy="1981080"/>
        </p:xfrm>
        <a:graphic>
          <a:graphicData uri="http://schemas.openxmlformats.org/drawingml/2006/table">
            <a:tbl>
              <a:tblPr/>
              <a:tblGrid>
                <a:gridCol w="2181240"/>
                <a:gridCol w="2030400"/>
                <a:gridCol w="2181240"/>
                <a:gridCol w="210312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о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ой к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ный к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-тельный к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дм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дения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916360" y="4292640"/>
            <a:ext cx="4033800" cy="504720"/>
            <a:chOff x="2916360" y="4292640"/>
            <a:chExt cx="4033800" cy="504720"/>
          </a:xfrm>
        </p:grpSpPr>
        <p:sp>
          <p:nvSpPr>
            <p:cNvPr id="99" name=""/>
            <p:cNvSpPr/>
            <p:nvPr/>
          </p:nvSpPr>
          <p:spPr>
            <a:xfrm>
              <a:off x="2916360" y="4292640"/>
              <a:ext cx="505080" cy="50472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21440" y="4292640"/>
              <a:ext cx="504720" cy="50472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24360" y="4292640"/>
              <a:ext cx="505080" cy="50472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29440" y="4292640"/>
              <a:ext cx="504720" cy="50472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32720" y="4292640"/>
              <a:ext cx="504720" cy="50472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7440" y="4292640"/>
              <a:ext cx="504720" cy="50472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0720" y="4292640"/>
              <a:ext cx="504720" cy="50472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45440" y="4292640"/>
              <a:ext cx="504720" cy="50472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едставление чисел в формате с фиксированной запятой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00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целые неотрицательные числа отводится ячейка размером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100" spc="-1" strike="noStrike" u="sng">
                <a:solidFill>
                  <a:srgbClr val="ff9933"/>
                </a:solidFill>
                <a:uFillTx/>
                <a:latin typeface="Arial"/>
              </a:rPr>
              <a:t>1 байт (8 бит )</a:t>
            </a:r>
            <a:r>
              <a:rPr b="0" lang="ru-RU" sz="31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мер: 34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ячейке памяти расположится та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4292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4292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4292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292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4292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4292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4292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292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2708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28464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адший ра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3284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рший ра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3933720"/>
            <a:ext cx="115092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948000" y="4005360"/>
            <a:ext cx="115092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27 -0.17418 C -0.09687 -0.17164 -0.07847 -0.16632 -0.06006 -0.16308 C -0.05173 -0.15915 -0.04357 -0.15892 -0.03541 -0.15383 C -0.0309 -0.14781 -0.02551 -0.14596 -0.01996 -0.1411 C -0.0151 -0.13671 -0.01232 -0.13093 -0.00833 -0.12561 C -0.00798 -0.12376 -0.00676 -0.11658 -0.0059 -0.1145 C -0.00451 -0.11126 -0.00121 -0.10502 -0.00121 -0.10502 C 0.00435 -0.0761 5.55556E-006 -0.02822 5.55556E-006 7.67985E-007 E">
                                      <p:cBhvr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1 -0.1913 C -0.08698 -0.17765 -0.09062 -0.16956 -0.08941 -0.14897 C -0.08906 -0.14411 -0.08958 -0.13833 -0.08698 -0.13486 C -0.08507 -0.13231 -0.08229 -0.13185 -0.07986 -0.13023 C -0.07187 -0.11219 -0.08281 -0.1337 -0.0658 -0.1145 C -0.05278 -0.0997 -0.06614 -0.10571 -0.05521 -0.10201 C -0.05 -0.09507 -0.04462 -0.08698 -0.0375 -0.08466 C -0.03229 -0.07055 -0.03142 -0.08281 -0.02222 -0.07055 C -0.01753 -0.06431 -0.01302 -0.06246 -0.00694 -0.05968 C 0.00104 -0.04881 -0.00191 -0.0539 0.00243 -0.04557 C -0.00139 -0.031 -4.72222E-006 -0.0155 -4.72222E-006 1.96623E-007 E">
                                      <p:cBhvr>
                                        <p:cTn id="11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21 -0.18042 C -0.05191 -0.16539 -0.05695 -0.18644 -0.05174 -0.17094 C -0.05087 -0.16816 -0.04983 -0.15914 -0.04948 -0.15683 C -0.04844 -0.13994 -0.04861 -0.12259 -0.04115 -0.10825 C -0.03854 -0.09484 -0.04219 -0.10802 -0.03646 -0.09877 C -0.03281 -0.09298 -0.03195 -0.08766 -0.02709 -0.08304 C -0.01997 -0.06939 -0.02969 -0.08674 -0.02118 -0.0754 C -0.01667 -0.06939 -0.01459 -0.06083 -0.00816 -0.05806 C -0.00417 -0.05435 -0.00191 -0.05019 0.00121 -0.04556 C 0.00347 -0.04233 0.00833 -0.03608 0.00833 -0.03608 C 0.01059 -0.0296 0.0125 -0.0259 0.01059 -0.01896 C 0.00937 -0.00763 0.00989 5.10525E-006 8.33333E-007 5.10525E-006 E">
                                      <p:cBhvr>
                                        <p:cTn id="12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1 -0.2112 C -0.0217 -0.19917 -0.02708 -0.18783 -0.03125 -0.17673 C -0.03368 -0.16956 -0.03368 -0.16586 -0.03715 -0.16007 C -0.03941 -0.15267 -0.03924 -0.14458 -0.04115 -0.13694 C -0.04271 -0.13116 -0.04427 -0.127 -0.04514 -0.12052 C -0.04444 -0.1034 -0.04479 -0.08605 -0.04323 -0.0694 C -0.04288 -0.06662 -0.03681 -0.06477 -0.03611 -0.06454 C -0.02951 -0.0613 -0.02274 -0.05968 -0.01615 -0.05621 C -0.01042 -0.04349 -0.01215 -0.03262 -0.00312 -0.02336 C -0.00104 -0.01481 1.11022E-016 -0.00949 1.11022E-016 8.83646E-007 E">
                                      <p:cBhvr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6 -0.19616 C 0.00816 -0.18459 0.00504 -0.19315 0.00591 -0.16678 C 0.00643 -0.15013 0.00782 -0.14457 -0.00052 -0.13208 C -0.0026 -0.12491 -0.00468 -0.12052 -0.0085 -0.11473 C -0.01041 -0.10432 -0.01041 -0.09368 -0.01388 -0.08374 C -0.01388 -0.08096 -0.01388 -0.07818 -0.01423 -0.07564 C -0.01493 -0.07217 -0.01614 -0.06569 -0.01614 -0.06546 C -0.01545 -0.05205 -0.01805 -0.02059 -0.00659 -0.00995 C -0.00486 -0.00532 -0.00034 -0.00324 -4.72222E-006 -1.57067E-006 E">
                                      <p:cBhvr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18968 C 0.04028 -0.17835 0.0375 -0.16563 0.03281 -0.1536 C 0.03108 -0.14249 0.02344 -0.11751 0.01754 -0.10965 C 0.01511 -0.10063 0.01771 -0.10942 0.01406 -0.10016 C 0.0125 -0.096 0.00938 -0.08767 0.00938 -0.08767 C 0.00521 -0.06014 0.00747 -0.03447 -0.00243 -0.00925 C 0.00018 -0.00093 -8.33333E-007 -0.00416 -8.33333E-007 2.27157E-006 E">
                                      <p:cBhvr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Самое большое число, которое может поместиться в такую ячейку памяти будет равно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554200" y="1989000"/>
            <a:ext cx="505080" cy="505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989000"/>
            <a:ext cx="504720" cy="505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2200" y="1989000"/>
            <a:ext cx="505080" cy="505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1989000"/>
            <a:ext cx="504720" cy="505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0560" y="1989000"/>
            <a:ext cx="504720" cy="505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5280" y="1989000"/>
            <a:ext cx="504720" cy="505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78560" y="1989000"/>
            <a:ext cx="504720" cy="505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3280" y="1989000"/>
            <a:ext cx="504720" cy="50508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2708280"/>
            <a:ext cx="896472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11111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1*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255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ли    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7280" y="3933720"/>
            <a:ext cx="885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-разрядно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ставления целых неотрицательных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33"/>
                </a:solidFill>
                <a:uFillTx/>
                <a:latin typeface="Arial"/>
              </a:rPr>
              <a:t>максимальное число равно 2</a:t>
            </a:r>
            <a:r>
              <a:rPr b="1" lang="en-US" sz="3200" spc="-1" strike="noStrike" u="sng" baseline="30000">
                <a:solidFill>
                  <a:srgbClr val="ff9933"/>
                </a:solidFill>
                <a:uFillTx/>
                <a:latin typeface="Arial"/>
              </a:rPr>
              <a:t>n</a:t>
            </a:r>
            <a:r>
              <a:rPr b="1" lang="ru-RU" sz="3200" spc="-1" strike="noStrike" u="sng">
                <a:solidFill>
                  <a:srgbClr val="ff9933"/>
                </a:solidFill>
                <a:uFillTx/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едставление чисел в формате с фиксированной запятой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00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целые числа со знаком отводится две ячейки памяти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 u="sng">
                <a:solidFill>
                  <a:srgbClr val="ff9933"/>
                </a:solidFill>
                <a:uFillTx/>
                <a:latin typeface="Arial"/>
              </a:rPr>
              <a:t>2 байт (16 бит 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чем старший (левый) разряд хранит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1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9933"/>
                </a:solidFill>
                <a:latin typeface="Arial"/>
              </a:rPr>
              <a:t>1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для </a:t>
            </a:r>
            <a:r>
              <a:rPr b="1" lang="en-US" sz="3100" spc="-1" strike="noStrike">
                <a:solidFill>
                  <a:srgbClr val="ff9933"/>
                </a:solidFill>
                <a:latin typeface="Arial"/>
              </a:rPr>
              <a:t>отрицательного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числ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100" spc="-1" strike="noStrike">
                <a:solidFill>
                  <a:srgbClr val="ff9933"/>
                </a:solidFill>
                <a:latin typeface="Arial"/>
              </a:rPr>
              <a:t>0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-для </a:t>
            </a:r>
            <a:r>
              <a:rPr b="1" lang="en-US" sz="3100" spc="-1" strike="noStrike">
                <a:solidFill>
                  <a:srgbClr val="ff9933"/>
                </a:solidFill>
                <a:latin typeface="Arial"/>
              </a:rPr>
              <a:t>положительного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числ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едставление чисел в формате с фиксированной запятой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пример число 34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26920" y="2521080"/>
            <a:ext cx="7562880" cy="504720"/>
            <a:chOff x="826920" y="2521080"/>
            <a:chExt cx="7562880" cy="504720"/>
          </a:xfrm>
        </p:grpSpPr>
        <p:grpSp>
          <p:nvGrpSpPr>
            <p:cNvPr id="138" name=""/>
            <p:cNvGrpSpPr/>
            <p:nvPr/>
          </p:nvGrpSpPr>
          <p:grpSpPr>
            <a:xfrm>
              <a:off x="826920" y="2521080"/>
              <a:ext cx="4033800" cy="504720"/>
              <a:chOff x="826920" y="2521080"/>
              <a:chExt cx="4033800" cy="504720"/>
            </a:xfrm>
          </p:grpSpPr>
          <p:sp>
            <p:nvSpPr>
              <p:cNvPr id="139" name=""/>
              <p:cNvSpPr/>
              <p:nvPr/>
            </p:nvSpPr>
            <p:spPr>
              <a:xfrm>
                <a:off x="826920" y="252108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3200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34920" y="252108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4000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4328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4800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5128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5600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26920" y="2521080"/>
              <a:ext cx="50472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3020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3492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3820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2920" y="252108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46200" y="252108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5128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4200" y="252108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356000" y="2521080"/>
              <a:ext cx="4033800" cy="504720"/>
              <a:chOff x="4356000" y="2521080"/>
              <a:chExt cx="4033800" cy="504720"/>
            </a:xfrm>
          </p:grpSpPr>
          <p:sp>
            <p:nvSpPr>
              <p:cNvPr id="156" name=""/>
              <p:cNvSpPr/>
              <p:nvPr/>
            </p:nvSpPr>
            <p:spPr>
              <a:xfrm>
                <a:off x="4356000" y="252108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6108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64000" y="252108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6908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7236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7708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8036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85080" y="252108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35600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5928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6400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6728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200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5280" y="252108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80000" y="252108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83280" y="252108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356000" y="1773360"/>
            <a:ext cx="194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09708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ячейках памяти расположится 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321840" y="3600360"/>
            <a:ext cx="3529080" cy="433440"/>
          </a:xfrm>
          <a:prstGeom prst="wedgeRoundRectCallout">
            <a:avLst>
              <a:gd name="adj1" fmla="val 30745"/>
              <a:gd name="adj2" fmla="val 198717"/>
              <a:gd name="adj3" fmla="val 16667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к положительного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221000"/>
            <a:ext cx="70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ление в компьютере положительных чисел в формате «знак-величина»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Arial"/>
              </a:rPr>
              <a:t>прямым 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едставление чисел в формате с фиксированной запятой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276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Самое большое положительное число, которое может поместиться в такую ячейку памяти будет рав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280" y="495000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9933"/>
                </a:solidFill>
                <a:latin typeface="Arial"/>
              </a:rPr>
              <a:t>n</a:t>
            </a:r>
            <a:r>
              <a:rPr b="1" lang="ru-RU" sz="3200" spc="-1" strike="noStrike" baseline="30000">
                <a:solidFill>
                  <a:srgbClr val="ff9933"/>
                </a:solidFill>
                <a:latin typeface="Arial"/>
              </a:rPr>
              <a:t>-1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16-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1=327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9640" y="4221000"/>
            <a:ext cx="8066160" cy="506520"/>
            <a:chOff x="539640" y="4221000"/>
            <a:chExt cx="8066160" cy="506520"/>
          </a:xfrm>
        </p:grpSpPr>
        <p:grpSp>
          <p:nvGrpSpPr>
            <p:cNvPr id="180" name=""/>
            <p:cNvGrpSpPr/>
            <p:nvPr/>
          </p:nvGrpSpPr>
          <p:grpSpPr>
            <a:xfrm>
              <a:off x="539640" y="4221000"/>
              <a:ext cx="4033800" cy="506520"/>
              <a:chOff x="539640" y="4221000"/>
              <a:chExt cx="4033800" cy="506520"/>
            </a:xfrm>
          </p:grpSpPr>
          <p:sp>
            <p:nvSpPr>
              <p:cNvPr id="181" name=""/>
              <p:cNvSpPr/>
              <p:nvPr/>
            </p:nvSpPr>
            <p:spPr>
              <a:xfrm>
                <a:off x="539640" y="4221000"/>
                <a:ext cx="504720" cy="504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4436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4764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052360" y="422100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564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60360" y="422100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65440" y="4222440"/>
                <a:ext cx="504720" cy="50508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6872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4572000" y="4221000"/>
              <a:ext cx="4033800" cy="506520"/>
              <a:chOff x="4572000" y="4221000"/>
              <a:chExt cx="4033800" cy="506520"/>
            </a:xfrm>
          </p:grpSpPr>
          <p:sp>
            <p:nvSpPr>
              <p:cNvPr id="190" name=""/>
              <p:cNvSpPr/>
              <p:nvPr/>
            </p:nvSpPr>
            <p:spPr>
              <a:xfrm>
                <a:off x="457200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7672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8000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84720" y="422100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8800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92720" y="4221000"/>
                <a:ext cx="50508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97800" y="4222440"/>
                <a:ext cx="504720" cy="50508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01080" y="4221000"/>
                <a:ext cx="504720" cy="504720"/>
              </a:xfrm>
              <a:prstGeom prst="rect">
                <a:avLst/>
              </a:prstGeom>
              <a:solidFill>
                <a:srgbClr val="97cd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 rot="10800000">
            <a:off x="178920" y="5373360"/>
            <a:ext cx="2737080" cy="576360"/>
          </a:xfrm>
          <a:prstGeom prst="wedgeRoundRectCallout">
            <a:avLst>
              <a:gd name="adj1" fmla="val 32828"/>
              <a:gd name="adj2" fmla="val 162120"/>
              <a:gd name="adj3" fmla="val 16667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к положительного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едставление чисел в формате с фиксированной запятой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2060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хранения отрицательных чисел использу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Arial"/>
              </a:rPr>
              <a:t>дополнительный к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3500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й код отрицательного числа А, хранящего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чейках, равен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Алгоритм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олучения дополнительного кода отрицательного числа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2060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2060640"/>
            <a:ext cx="8064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уль числа записать в </a:t>
            </a:r>
            <a:r>
              <a:rPr b="0" lang="ru-RU" sz="3200" spc="-1" strike="noStrike" u="sng">
                <a:solidFill>
                  <a:srgbClr val="ff9933"/>
                </a:solidFill>
                <a:uFillTx/>
                <a:latin typeface="Arial"/>
              </a:rPr>
              <a:t>прямом код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ых разря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вертировать значения всех битов для получения </a:t>
            </a:r>
            <a:r>
              <a:rPr b="0" lang="ru-RU" sz="3200" spc="-1" strike="noStrike" u="sng">
                <a:solidFill>
                  <a:srgbClr val="ff9933"/>
                </a:solidFill>
                <a:uFillTx/>
                <a:latin typeface="Arial"/>
              </a:rPr>
              <a:t>обратного к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обратному коду </a:t>
            </a:r>
            <a:r>
              <a:rPr b="0" lang="ru-RU" sz="3200" spc="-1" strike="noStrike" u="sng">
                <a:solidFill>
                  <a:srgbClr val="ff9933"/>
                </a:solidFill>
                <a:uFillTx/>
                <a:latin typeface="Arial"/>
              </a:rPr>
              <a:t>прибавить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ример алгоритма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получения дополнительного кода отрицательного числа -34</a:t>
            </a:r>
            <a:r>
              <a:rPr b="0" lang="en-US" sz="2900" spc="-1" strike="noStrike" baseline="-25000">
                <a:solidFill>
                  <a:srgbClr val="336666"/>
                </a:solidFill>
                <a:latin typeface="Arial Black"/>
              </a:rPr>
              <a:t>10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2060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1700280"/>
            <a:ext cx="806436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числа записать в </a:t>
            </a: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</a:rPr>
              <a:t>прямом ко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ых разрядах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-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99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тировать значения всех битов для получения </a:t>
            </a: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</a:rPr>
              <a:t>обратного к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99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99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обратному коду </a:t>
            </a: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</a:rPr>
              <a:t>прибавить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26920" y="2492280"/>
            <a:ext cx="7562880" cy="432000"/>
            <a:chOff x="826920" y="2492280"/>
            <a:chExt cx="7562880" cy="432000"/>
          </a:xfrm>
        </p:grpSpPr>
        <p:grpSp>
          <p:nvGrpSpPr>
            <p:cNvPr id="209" name=""/>
            <p:cNvGrpSpPr/>
            <p:nvPr/>
          </p:nvGrpSpPr>
          <p:grpSpPr>
            <a:xfrm>
              <a:off x="826920" y="2492280"/>
              <a:ext cx="4033800" cy="432000"/>
              <a:chOff x="826920" y="2492280"/>
              <a:chExt cx="4033800" cy="43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826920" y="249228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3200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4920" y="249228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4000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4328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4800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5128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5600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82692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3020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3492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3820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42920" y="249228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46200" y="249228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128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4200" y="249228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356000" y="2492280"/>
              <a:ext cx="4033800" cy="432000"/>
              <a:chOff x="4356000" y="2492280"/>
              <a:chExt cx="4033800" cy="4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356000" y="249228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6108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64000" y="249228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908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7236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7708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38036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85080" y="249228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35600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5928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6400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6728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7200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75280" y="249228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80000" y="249228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83280" y="249228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14320" y="3778200"/>
            <a:ext cx="7562880" cy="360360"/>
            <a:chOff x="814320" y="3778200"/>
            <a:chExt cx="7562880" cy="360360"/>
          </a:xfrm>
        </p:grpSpPr>
        <p:grpSp>
          <p:nvGrpSpPr>
            <p:cNvPr id="244" name=""/>
            <p:cNvGrpSpPr/>
            <p:nvPr/>
          </p:nvGrpSpPr>
          <p:grpSpPr>
            <a:xfrm>
              <a:off x="814320" y="3778200"/>
              <a:ext cx="4033800" cy="360360"/>
              <a:chOff x="814320" y="3778200"/>
              <a:chExt cx="4033800" cy="360360"/>
            </a:xfrm>
          </p:grpSpPr>
          <p:sp>
            <p:nvSpPr>
              <p:cNvPr id="245" name=""/>
              <p:cNvSpPr/>
              <p:nvPr/>
            </p:nvSpPr>
            <p:spPr>
              <a:xfrm>
                <a:off x="814320" y="3778200"/>
                <a:ext cx="505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1940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22320" y="3778200"/>
                <a:ext cx="505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2740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3068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3540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3868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4340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1432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1760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2232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560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0320" y="37782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33600" y="37782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3868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41600" y="37782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343400" y="3778200"/>
              <a:ext cx="4033800" cy="360360"/>
              <a:chOff x="4343400" y="3778200"/>
              <a:chExt cx="4033800" cy="360360"/>
            </a:xfrm>
          </p:grpSpPr>
          <p:sp>
            <p:nvSpPr>
              <p:cNvPr id="262" name=""/>
              <p:cNvSpPr/>
              <p:nvPr/>
            </p:nvSpPr>
            <p:spPr>
              <a:xfrm>
                <a:off x="4343400" y="3778200"/>
                <a:ext cx="505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848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351400" y="3778200"/>
                <a:ext cx="505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5648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5976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6448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36776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72480" y="37782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434340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4668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5140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5468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940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62680" y="37782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67400" y="37782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70680" y="37782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826920" y="4653000"/>
            <a:ext cx="7562880" cy="360360"/>
            <a:chOff x="826920" y="4653000"/>
            <a:chExt cx="7562880" cy="360360"/>
          </a:xfrm>
        </p:grpSpPr>
        <p:grpSp>
          <p:nvGrpSpPr>
            <p:cNvPr id="279" name=""/>
            <p:cNvGrpSpPr/>
            <p:nvPr/>
          </p:nvGrpSpPr>
          <p:grpSpPr>
            <a:xfrm>
              <a:off x="826920" y="4653000"/>
              <a:ext cx="4033800" cy="360360"/>
              <a:chOff x="826920" y="4653000"/>
              <a:chExt cx="4033800" cy="360360"/>
            </a:xfrm>
          </p:grpSpPr>
          <p:sp>
            <p:nvSpPr>
              <p:cNvPr id="280" name=""/>
              <p:cNvSpPr/>
              <p:nvPr/>
            </p:nvSpPr>
            <p:spPr>
              <a:xfrm>
                <a:off x="826920" y="4653000"/>
                <a:ext cx="505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3200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34920" y="4653000"/>
                <a:ext cx="505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4000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4328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4800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128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5600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82692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3020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492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3820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42920" y="46530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46200" y="46530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5128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4200" y="46530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356000" y="4653000"/>
              <a:ext cx="4033800" cy="360360"/>
              <a:chOff x="4356000" y="4653000"/>
              <a:chExt cx="4033800" cy="360360"/>
            </a:xfrm>
          </p:grpSpPr>
          <p:sp>
            <p:nvSpPr>
              <p:cNvPr id="297" name=""/>
              <p:cNvSpPr/>
              <p:nvPr/>
            </p:nvSpPr>
            <p:spPr>
              <a:xfrm>
                <a:off x="4356000" y="4653000"/>
                <a:ext cx="505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6108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64000" y="4653000"/>
                <a:ext cx="505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6908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7236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87708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8036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885080" y="4653000"/>
                <a:ext cx="50472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35600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5928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6400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200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75280" y="4653000"/>
              <a:ext cx="50472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0000" y="46530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83280" y="4653000"/>
              <a:ext cx="50508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826920" y="5084640"/>
            <a:ext cx="7562880" cy="432000"/>
            <a:chOff x="826920" y="5084640"/>
            <a:chExt cx="7562880" cy="432000"/>
          </a:xfrm>
        </p:grpSpPr>
        <p:grpSp>
          <p:nvGrpSpPr>
            <p:cNvPr id="314" name=""/>
            <p:cNvGrpSpPr/>
            <p:nvPr/>
          </p:nvGrpSpPr>
          <p:grpSpPr>
            <a:xfrm>
              <a:off x="826920" y="5084640"/>
              <a:ext cx="4033800" cy="432000"/>
              <a:chOff x="826920" y="5084640"/>
              <a:chExt cx="4033800" cy="432000"/>
            </a:xfrm>
          </p:grpSpPr>
          <p:sp>
            <p:nvSpPr>
              <p:cNvPr id="315" name=""/>
              <p:cNvSpPr/>
              <p:nvPr/>
            </p:nvSpPr>
            <p:spPr>
              <a:xfrm>
                <a:off x="826920" y="508464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3200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34920" y="508464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4000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4328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4800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5128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5600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82692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020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3492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3820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2920" y="508464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46200" y="508464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5128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54200" y="508464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4356000" y="5084640"/>
              <a:ext cx="4033800" cy="432000"/>
              <a:chOff x="4356000" y="5084640"/>
              <a:chExt cx="4033800" cy="432000"/>
            </a:xfrm>
          </p:grpSpPr>
          <p:sp>
            <p:nvSpPr>
              <p:cNvPr id="332" name=""/>
              <p:cNvSpPr/>
              <p:nvPr/>
            </p:nvSpPr>
            <p:spPr>
              <a:xfrm>
                <a:off x="4356000" y="508464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6108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64000" y="508464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6908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7236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7708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8036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85080" y="508464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435600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5928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6400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728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200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75280" y="508464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80000" y="508464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83280" y="508464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8360" y="4941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826920" y="5805360"/>
            <a:ext cx="7562880" cy="432000"/>
            <a:chOff x="826920" y="5805360"/>
            <a:chExt cx="7562880" cy="432000"/>
          </a:xfrm>
        </p:grpSpPr>
        <p:grpSp>
          <p:nvGrpSpPr>
            <p:cNvPr id="350" name=""/>
            <p:cNvGrpSpPr/>
            <p:nvPr/>
          </p:nvGrpSpPr>
          <p:grpSpPr>
            <a:xfrm>
              <a:off x="826920" y="5805360"/>
              <a:ext cx="4033800" cy="432000"/>
              <a:chOff x="826920" y="5805360"/>
              <a:chExt cx="4033800" cy="432000"/>
            </a:xfrm>
          </p:grpSpPr>
          <p:sp>
            <p:nvSpPr>
              <p:cNvPr id="351" name=""/>
              <p:cNvSpPr/>
              <p:nvPr/>
            </p:nvSpPr>
            <p:spPr>
              <a:xfrm>
                <a:off x="826920" y="580536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3200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34920" y="580536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34000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4328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34800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5128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5600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826920" y="5805360"/>
              <a:ext cx="504720" cy="432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3020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3492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3820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42920" y="580536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46200" y="580536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5128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4200" y="580536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4356000" y="5805360"/>
              <a:ext cx="4033800" cy="432000"/>
              <a:chOff x="4356000" y="5805360"/>
              <a:chExt cx="4033800" cy="432000"/>
            </a:xfrm>
          </p:grpSpPr>
          <p:sp>
            <p:nvSpPr>
              <p:cNvPr id="368" name=""/>
              <p:cNvSpPr/>
              <p:nvPr/>
            </p:nvSpPr>
            <p:spPr>
              <a:xfrm>
                <a:off x="4356000" y="580536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86108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64000" y="5805360"/>
                <a:ext cx="50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6908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7236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87708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8036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885080" y="5805360"/>
                <a:ext cx="50472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35600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5928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6400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6728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7200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5280" y="5805360"/>
              <a:ext cx="50472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80000" y="580536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83280" y="5805360"/>
              <a:ext cx="5050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468360" y="566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76360" y="6424560"/>
            <a:ext cx="3456000" cy="433440"/>
          </a:xfrm>
          <a:prstGeom prst="wedgeRoundRectCallout">
            <a:avLst>
              <a:gd name="adj1" fmla="val 58449"/>
              <a:gd name="adj2" fmla="val 100180"/>
              <a:gd name="adj3" fmla="val 16667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к отрицательного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8:13:34Z</dcterms:created>
  <dc:creator>Родители</dc:creator>
  <dc:description/>
  <dc:language>en-US</dc:language>
  <cp:lastModifiedBy>Savkina</cp:lastModifiedBy>
  <dcterms:modified xsi:type="dcterms:W3CDTF">2007-10-26T12:16:58Z</dcterms:modified>
  <cp:revision>47</cp:revision>
  <dc:subject/>
  <dc:title>Представление чисел  в памяти компьютера</dc:title>
</cp:coreProperties>
</file>